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DB6-AA31-4BC0-BEDD-D64526E1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ECED-D7E9-4D1B-93FC-07B6B52C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8D1-4284-4036-847B-FB012D4E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014-9839-48B2-A23C-21B7EBF7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AA22-3573-4414-B999-BB583B04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544B-F997-4F93-8B99-84534FCC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03BC-819C-41F9-A4C0-77AECAF7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A464-543D-487C-AF1E-8C4E3863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05A4-F9E1-4942-B120-FB23D580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93DF-3E4E-46B3-B3EB-41F2F4B6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5E4B-ABC4-49B0-A7CD-6549AA81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AF5-6FDC-4C19-B9B1-FB5C4C7E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4836-BFC2-4A8B-9CA8-8D9D5DFA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A9E2-0DFB-420B-8A88-980A8EDD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C63A-32CD-48F6-A0E4-52D4E355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A8E9-3186-4F7C-9B18-AB85008F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C747-7626-4000-ADBF-E4EED909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92A6-06FD-41A7-BAB8-0DEFA754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7262-04FF-499A-A2A8-C6785EB7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6B0-F87F-4335-8DA9-D67E53C4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CD60-972C-4ABD-9EC7-04D56474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FF4-78B0-4BB5-904A-4C0B0B40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9A0-CD11-44DC-BEB6-840EF6FA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6C8-A456-46F9-9E14-5E5EC167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66D8-CBB7-42AA-AAC0-DAA1877735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4102-156B-4340-8180-F1492656CC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0" y="1052280"/>
            <a:ext cx="46083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icrosoft Word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71280" y="2060280"/>
            <a:ext cx="8172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3300"/>
                </a:solidFill>
                <a:latin typeface="Tahoma"/>
              </a:rPr>
              <a:t>OPERATII DE PROCESARE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ff3300"/>
                </a:solidFill>
                <a:latin typeface="Tahoma"/>
              </a:rPr>
              <a:t>A TEXTU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Introducerea text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Selectarea text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Modificarea text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Stergerea text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Anularea unei comenz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Copierea si mutarea text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Copierea text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Mutarea text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Cautarea unui tex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Inlocuirea unui text cu altu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Inserarea unui simbol spe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6624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ahoma"/>
              </a:rPr>
              <a:t>Inlocuirea unui text cu altul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99308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 fereastra Find and Replace (Gasire si inlocuire) se alege optiunea Replace (Inlocui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 introduce textul care va fi inlocuit in caseta Find what (De cauta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 introduce textul cu care va fi inlocuit in caseta Replace with (Inlocuire cu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 apasa Replace (Inlocuire) sau Replace All (Inlocuire peste to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Object 7"/>
          <p:cNvGraphicFramePr/>
          <p:nvPr/>
        </p:nvGraphicFramePr>
        <p:xfrm>
          <a:off x="1619280" y="4292640"/>
          <a:ext cx="655308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4292640"/>
                    <a:ext cx="655308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98064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Inserarea unui simbol speci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7336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ert/Symb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are fereastra Symb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selecteaza simbolul si se apasa butonul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2484360" y="3141720"/>
          <a:ext cx="525636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141720"/>
                    <a:ext cx="525636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55450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Introducerea textulu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31640" y="2781360"/>
            <a:ext cx="331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textul se introduce cursiv de la tasta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3" name="Object 5"/>
          <p:cNvGraphicFramePr/>
          <p:nvPr/>
        </p:nvGraphicFramePr>
        <p:xfrm>
          <a:off x="5219640" y="2492280"/>
          <a:ext cx="304812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492280"/>
                    <a:ext cx="3048120" cy="26766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765000"/>
            <a:ext cx="4969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Selectarea textulu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 poate realiza cu ajutorul tastaturii sau mouse-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ntru a renunta la selectie, se poate da clic oriunde pe foaia de lucr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lectarea unui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cuva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d5d0"/>
                </a:solidFill>
                <a:latin typeface="Tahoma"/>
              </a:rPr>
              <a:t>dublu</a:t>
            </a:r>
            <a:r>
              <a:rPr b="0" lang="en-US" sz="2000" spc="-1" strike="noStrike">
                <a:solidFill>
                  <a:srgbClr val="00808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d5d0"/>
                </a:solidFill>
                <a:latin typeface="Tahoma"/>
              </a:rPr>
              <a:t>clic de mouse pe cuv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lectarea unei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fraz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d5d0"/>
                </a:solidFill>
                <a:latin typeface="Tahoma"/>
              </a:rPr>
              <a:t>triplu clic pe un cuvant din fraz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respect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lectarea unui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paragraf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d5d0"/>
                </a:solidFill>
                <a:latin typeface="Tahoma"/>
              </a:rPr>
              <a:t>prin selectarea cu ajutorul mouse-ului a inceputului rand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lectarea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tregului text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d5d0"/>
                </a:solidFill>
                <a:latin typeface="Tahoma"/>
              </a:rPr>
              <a:t>Ctrl+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lectarea se poate face tinand apasate </a:t>
            </a:r>
            <a:r>
              <a:rPr b="0" lang="en-US" sz="2000" spc="-1" strike="noStrike">
                <a:solidFill>
                  <a:srgbClr val="00d5d0"/>
                </a:solidFill>
                <a:latin typeface="Tahoma"/>
              </a:rPr>
              <a:t>tastele SHIFT + tastele DIRECTIONAL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 functie de directia dori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518472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Modificarea textulu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aracter cu caract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 tasta BackSpace - sterge caracterele din stanga cursor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 tasta Delete - sterge caracterele din dreapta cursor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Prin suprascrier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se activeaza prin dublu clic optiunea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verwrit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flata pe bara de stare a ferestrei Wo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4859280" y="4005360"/>
          <a:ext cx="2879640" cy="12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4005360"/>
                    <a:ext cx="287964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7"/>
          <p:cNvGraphicFramePr/>
          <p:nvPr/>
        </p:nvGraphicFramePr>
        <p:xfrm>
          <a:off x="4859280" y="5504040"/>
          <a:ext cx="2879640" cy="13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5504040"/>
                    <a:ext cx="287964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Line 11"/>
          <p:cNvSpPr/>
          <p:nvPr/>
        </p:nvSpPr>
        <p:spPr>
          <a:xfrm flipV="1">
            <a:off x="7308720" y="4652640"/>
            <a:ext cx="503280" cy="431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12"/>
          <p:cNvSpPr/>
          <p:nvPr/>
        </p:nvSpPr>
        <p:spPr>
          <a:xfrm flipV="1">
            <a:off x="7308720" y="5805000"/>
            <a:ext cx="576360" cy="8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7740720" y="443700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ptiune neactiv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7956720" y="5667480"/>
            <a:ext cx="11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ptiune activ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Stergerea textulu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selecteaza textu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oi se apasa tasta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le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Object 6"/>
          <p:cNvGraphicFramePr/>
          <p:nvPr/>
        </p:nvGraphicFramePr>
        <p:xfrm>
          <a:off x="4859280" y="2205000"/>
          <a:ext cx="3816360" cy="23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205000"/>
                    <a:ext cx="381636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Line 8"/>
          <p:cNvSpPr/>
          <p:nvPr/>
        </p:nvSpPr>
        <p:spPr>
          <a:xfrm>
            <a:off x="4572000" y="2421000"/>
            <a:ext cx="144000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9640" y="69228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Anularea unei comenz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429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 utilizeaza atunci cand dorim sa renuntam la efectul ultimei operatii ( de exemplu stergerea ultimului caract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n meniul Edit se alege comanda Un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 poate alege butonul Undo de pe bara cu instrumente Stand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5940360" y="2205000"/>
          <a:ext cx="2951280" cy="25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205000"/>
                    <a:ext cx="295128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Line 6"/>
          <p:cNvSpPr/>
          <p:nvPr/>
        </p:nvSpPr>
        <p:spPr>
          <a:xfrm flipV="1">
            <a:off x="4932360" y="3933360"/>
            <a:ext cx="2232000" cy="1582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3454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Copierea si mutarea textulu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504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pot utiliza butoanele </a:t>
            </a:r>
            <a:r>
              <a:rPr b="1" lang="en-US" sz="2400" spc="-1" strike="noStrike">
                <a:solidFill>
                  <a:srgbClr val="00d5d0"/>
                </a:solidFill>
                <a:latin typeface="Tahoma"/>
              </a:rPr>
              <a:t>Copy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d5d0"/>
                </a:solidFill>
                <a:latin typeface="Tahoma"/>
              </a:rPr>
              <a:t>Cut, Pas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e pe bara cu instrumente Standard – identificarea l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pierea si mutarea textului in diferite parti ale documentului sau chiar din documente diferite, este posibila datorita existentei Clipboard-ulu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lipboar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e o memorie temporara folosita la pastrarea pe termen scurt a cuvintelor, imaginilor, diagramelor sau a altor obiec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5940360" y="2205000"/>
          <a:ext cx="2952720" cy="28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205000"/>
                    <a:ext cx="295272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Line 6"/>
          <p:cNvSpPr/>
          <p:nvPr/>
        </p:nvSpPr>
        <p:spPr>
          <a:xfrm>
            <a:off x="4716360" y="2060640"/>
            <a:ext cx="2592360" cy="20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1403280" y="2421000"/>
            <a:ext cx="5184720" cy="1871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2627280" y="2349360"/>
            <a:ext cx="5473800" cy="180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4294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a)Copierea textului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 selecteaza textu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 dreapta pe selectie si se alege comanda Copy (Copie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 in locul unde dorim sa copiem textul si se alege comanda Paste (Lipi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u Edit/Cop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b)Mutarea text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 selecteaza textu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 dreapta pe selectie si se alege comanda Cut (Decup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 in locul unde dorim sa copiem textul si se alege comanda Paste (Lipi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u Edit/Cu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5364000" y="1628640"/>
          <a:ext cx="265464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1628640"/>
                    <a:ext cx="265464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Line 7"/>
          <p:cNvSpPr/>
          <p:nvPr/>
        </p:nvSpPr>
        <p:spPr>
          <a:xfrm>
            <a:off x="3276720" y="1484280"/>
            <a:ext cx="3024000" cy="115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8" name="Object 8"/>
          <p:cNvGraphicFramePr/>
          <p:nvPr/>
        </p:nvGraphicFramePr>
        <p:xfrm>
          <a:off x="5364000" y="4292640"/>
          <a:ext cx="2664000" cy="24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4292640"/>
                    <a:ext cx="266400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Line 11"/>
          <p:cNvSpPr/>
          <p:nvPr/>
        </p:nvSpPr>
        <p:spPr>
          <a:xfrm>
            <a:off x="4572000" y="4365720"/>
            <a:ext cx="1871640" cy="431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5184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Cautarea unui tex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5376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selecteaza din meniul Edit optiunea Find (Gas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 aparea fereastra Find and Replace(Gasire si inlocu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tasteaza textul caut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apasa butonul Find next (Urmatorul gasi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Object 6"/>
          <p:cNvGraphicFramePr/>
          <p:nvPr/>
        </p:nvGraphicFramePr>
        <p:xfrm>
          <a:off x="1547640" y="3860640"/>
          <a:ext cx="69138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860640"/>
                    <a:ext cx="69138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09:28:47Z</dcterms:created>
  <dc:creator/>
  <dc:description/>
  <dc:language>en-US</dc:language>
  <cp:lastModifiedBy>HE</cp:lastModifiedBy>
  <dcterms:modified xsi:type="dcterms:W3CDTF">2010-12-25T08:55:29Z</dcterms:modified>
  <cp:revision>16</cp:revision>
  <dc:subject/>
  <dc:title>Microsoft Word</dc:title>
</cp:coreProperties>
</file>